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5.gif" ContentType="image/gif"/>
  <Override PartName="/ppt/media/image3.wmf" ContentType="image/x-wmf"/>
  <Override PartName="/ppt/media/image26.wmf" ContentType="image/x-wmf"/>
  <Override PartName="/ppt/media/image28.wmf" ContentType="image/x-wmf"/>
  <Override PartName="/ppt/media/image27.wmf" ContentType="image/x-wmf"/>
  <Override PartName="/ppt/media/image21.jpeg" ContentType="image/jpeg"/>
  <Override PartName="/ppt/media/image16.jpeg" ContentType="image/jpeg"/>
  <Override PartName="/ppt/media/image15.wmf" ContentType="image/x-wmf"/>
  <Override PartName="/ppt/media/image24.jpeg" ContentType="image/jpeg"/>
  <Override PartName="/ppt/media/image22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2.wmf" ContentType="image/x-wmf"/>
  <Override PartName="/ppt/media/image23.jpeg" ContentType="image/jpeg"/>
  <Override PartName="/ppt/media/image25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DD7-7C68-46F2-9C47-A4A4EB49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273-D38A-4999-9181-855821DA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87C-7CB8-4345-84BA-E62B63A9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6D5-0C2C-4B62-8889-FBE5A69B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F05-DE80-46FF-B0E7-D25DA589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2F5-5A9C-4928-8393-8B1EA224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2C5-3A08-4B94-9899-B128FF21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C5D0-9A52-44D3-AAD0-6B5EABD0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98E-1A5A-4C89-93A7-23BC86AF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288-BE2E-4800-9704-7F7AFAE2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D51-19C3-49BD-85BB-172EBA4A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392B-2FA5-4C9C-B9D6-EDCCFD8B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FA47-0E14-49EF-AC42-66F909CA2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971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bbe0e3"/>
                </a:solidFill>
                <a:latin typeface="Arial"/>
              </a:rPr>
              <a:t>Simple Machines</a:t>
            </a:r>
            <a:endParaRPr b="0" lang="en-US" sz="70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Introduction 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Why Use Simple Machines?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981080"/>
            <a:ext cx="754380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</a:t>
            </a:r>
            <a:r>
              <a:rPr b="0" lang="en-US" sz="3200" spc="-1" strike="noStrike">
                <a:solidFill>
                  <a:srgbClr val="ccff66"/>
                </a:solidFill>
                <a:latin typeface="Arial"/>
              </a:rPr>
              <a:t>mechanical advantag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ing something easier to do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it takes a little longer to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xample, going up a longer flight of stairs instead of going straight up a l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343400" y="4883040"/>
            <a:ext cx="1614600" cy="1693800"/>
            <a:chOff x="4343400" y="4883040"/>
            <a:chExt cx="1614600" cy="1693800"/>
          </a:xfrm>
        </p:grpSpPr>
        <p:sp>
          <p:nvSpPr>
            <p:cNvPr id="93" name=""/>
            <p:cNvSpPr/>
            <p:nvPr/>
          </p:nvSpPr>
          <p:spPr>
            <a:xfrm>
              <a:off x="4343400" y="6550920"/>
              <a:ext cx="16146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05360" y="5716440"/>
              <a:ext cx="283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647600" y="5996880"/>
              <a:ext cx="283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29080" y="6293520"/>
              <a:ext cx="0" cy="28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00280" y="6283800"/>
              <a:ext cx="282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76760" y="6026400"/>
              <a:ext cx="0" cy="28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3440" y="5740560"/>
              <a:ext cx="0" cy="28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63160" y="4883040"/>
              <a:ext cx="283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05400" y="5163120"/>
              <a:ext cx="283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186880" y="5459760"/>
              <a:ext cx="0" cy="28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58080" y="5450400"/>
              <a:ext cx="283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34560" y="5193000"/>
              <a:ext cx="0" cy="282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91240" y="4906800"/>
              <a:ext cx="0" cy="28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819520" y="4876560"/>
            <a:ext cx="858600" cy="1699560"/>
            <a:chOff x="2819520" y="4876560"/>
            <a:chExt cx="858600" cy="1699560"/>
          </a:xfrm>
        </p:grpSpPr>
        <p:sp>
          <p:nvSpPr>
            <p:cNvPr id="107" name=""/>
            <p:cNvSpPr/>
            <p:nvPr/>
          </p:nvSpPr>
          <p:spPr>
            <a:xfrm>
              <a:off x="2937960" y="639576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19520" y="6572520"/>
              <a:ext cx="73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871360" y="4895280"/>
              <a:ext cx="663840" cy="1680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3014280" y="4876560"/>
              <a:ext cx="663840" cy="1680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3440" y="618660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09320" y="595764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00400" y="574344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5720" y="554400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61320" y="534852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47720" y="514332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18640" y="4962240"/>
              <a:ext cx="1400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omplex Machine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ing two or more simple machines to work toge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 jack </a:t>
            </a: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comb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edge and scr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ane or tow truck </a:t>
            </a: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comb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ever and pull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l barrow </a:t>
            </a: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combin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el and ax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a l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5257800"/>
            <a:ext cx="2085840" cy="1244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581280" y="49528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934320" y="4724280"/>
            <a:ext cx="1368360" cy="1752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391520" y="243828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295280"/>
          <a:ext cx="8229600" cy="5311800"/>
        </p:xfrm>
        <a:graphic>
          <a:graphicData uri="http://schemas.openxmlformats.org/drawingml/2006/table">
            <a:tbl>
              <a:tblPr/>
              <a:tblGrid>
                <a:gridCol w="1981080"/>
                <a:gridCol w="6248520"/>
              </a:tblGrid>
              <a:tr h="74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W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Pushes material apart, cut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Whee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and Ax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Makes it easy to move things 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by rolling them, and reducing frictio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L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Helps lift heavy weights 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using longer distanc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Inclined Pl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Makes it easier to move objects upward; a longer path, but easier lifting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Scr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ffcc99"/>
                          </a:solidFill>
                          <a:latin typeface="Arial"/>
                        </a:rPr>
                        <a:t>Turns rotation into lengthwise movemen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Pull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Makes lifting heavy weights easier 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ccffcc"/>
                          </a:solidFill>
                          <a:latin typeface="Arial"/>
                        </a:rPr>
                        <a:t>by redirecting for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4068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ll images © Copyright © 2004 Microsoft Corporation, One Microsoft Way, Redmond, WA 98052-6399 USA. All rights reserve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"/>
              </a:rPr>
              <a:t>Excep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or image below, which was created by the ITL Program, College of Engineering and Applied Science, University of Colorado at Bould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800600" y="5218200"/>
            <a:ext cx="3633840" cy="1411200"/>
            <a:chOff x="4800600" y="5218200"/>
            <a:chExt cx="3633840" cy="141120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4800600" y="5218200"/>
              <a:ext cx="3633840" cy="14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876920" y="552276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6600" y="5294160"/>
              <a:ext cx="990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58000" y="6132600"/>
              <a:ext cx="990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76920" y="628488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86400" y="5751360"/>
              <a:ext cx="990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What are they?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1240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e machines are machine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few or no moving parts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are used to make work eas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Types of Simple Machines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7920" y="1752480"/>
          <a:ext cx="5943600" cy="4525920"/>
        </p:xfrm>
        <a:graphic>
          <a:graphicData uri="http://schemas.openxmlformats.org/drawingml/2006/table">
            <a:tbl>
              <a:tblPr/>
              <a:tblGrid>
                <a:gridCol w="59436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el and Ax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lined Pl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r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ll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Wedg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62485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es materials apart, cuts th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xe, doorstop, chisel, nail, saw, jackhammer, bulldozer, snow plow, horse plow, zipper, scissors, airplane wing, knife, fork, bow of a boat or 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1825560" cy="128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2209680" cy="1579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90920" y="4800600"/>
            <a:ext cx="451620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315200" y="4648320"/>
            <a:ext cx="1341360" cy="1676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781680" y="1371600"/>
            <a:ext cx="1955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Wheel and Axl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it easy to move things by rolling them, and reducing fri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ar, bicycle, office chai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el barrow, shopping cart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 truck, roller skat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4343400"/>
            <a:ext cx="1952640" cy="180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 rot="21234000">
            <a:off x="5562720" y="3352320"/>
            <a:ext cx="2819160" cy="1824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080" y="5257800"/>
            <a:ext cx="18288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Lever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lifting weight easier by using a fulcrum to redirect force over a longer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see-saw, dump truck, broom, crane arm, hammer claw, crow bar, fishing pole, screwdriver, bottle ope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590920" y="4343400"/>
            <a:ext cx="3633840" cy="1411200"/>
            <a:chOff x="2590920" y="4343400"/>
            <a:chExt cx="3633840" cy="141120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2590920" y="4343400"/>
              <a:ext cx="3633840" cy="14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2667240" y="4647960"/>
              <a:ext cx="6858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876920" y="4419360"/>
              <a:ext cx="990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48320" y="5257800"/>
              <a:ext cx="990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7240" y="5410080"/>
              <a:ext cx="91440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4876560"/>
              <a:ext cx="99072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553080" y="3886200"/>
            <a:ext cx="1809720" cy="2209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18493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Inclined Plane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it easier to move objects upward, but you have to go further horizont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ghway or sidewalk ramp, stairs, inclined conveyor belts, switchback roads or tr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429000" y="5105520"/>
            <a:ext cx="3124080" cy="1143000"/>
          </a:xfrm>
          <a:prstGeom prst="rtTriangle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010280" y="3733920"/>
            <a:ext cx="150336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520" y="4267080"/>
            <a:ext cx="212724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276720" y="3657600"/>
            <a:ext cx="203832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Screw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rns rotation into lengthwise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many twists to go a short di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ds things toge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crews, bolts, clamps, jar lids, car jack, spinning stools, spiral stair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638680" y="4495680"/>
            <a:ext cx="1747800" cy="1625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2057400" cy="1644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562720" y="228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05320" y="4038480"/>
            <a:ext cx="1817640" cy="2419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1752480" y="5029200"/>
            <a:ext cx="1600200" cy="1547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7543800" y="3962520"/>
            <a:ext cx="118908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Pulley</a:t>
            </a:r>
            <a:endParaRPr b="0" lang="en-US" sz="44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s lifting things with a rope easie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redirecting force and the addition of additional pull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Examples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lag pole, elevator, sails, fishing nets, clothes lines, cranes, window shades and blinds, rock climbing g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29000" y="4334040"/>
            <a:ext cx="2895480" cy="20667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5320" y="685800"/>
            <a:ext cx="1823760" cy="176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676920" y="2743200"/>
            <a:ext cx="223848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4675320"/>
            <a:ext cx="304812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9T01:11:32Z</dcterms:created>
  <dc:creator>Franklin D. Roosevelt</dc:creator>
  <dc:description/>
  <dc:language>en-US</dc:language>
  <cp:lastModifiedBy>denise</cp:lastModifiedBy>
  <dcterms:modified xsi:type="dcterms:W3CDTF">2007-01-04T22:12:41Z</dcterms:modified>
  <cp:revision>33</cp:revision>
  <dc:subject/>
  <dc:title>Simple Machines Review</dc:title>
</cp:coreProperties>
</file>